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F0C-0B1A-4C49-83DA-47A7C6FC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A79-5585-49A7-9563-96A7CBD0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E31-6537-4706-9AAF-CDA5B749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1C7-E6FA-4B29-A413-854258A4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461-3553-47B0-A188-CDBDEE90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EB1-1A09-45CA-814A-22E8979E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445-3D57-4402-AFF1-4258A7FE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9E0-519B-4B35-A05D-2B69AB9A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104-95E9-4F37-8A9E-CB2752F1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FE8-43FB-46CB-AD41-1E8461BA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BD7-A7D7-4CF6-9C95-0EC0FE3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915-23BE-42BF-8842-B50DF9BC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C123-C104-4606-8167-416A7EFDD1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3973-75BB-4B92-8E3D-E30DF9E8D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条立法目的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强产品质量监管，提高质量水平，明确质量责任，保护消费者合法权益，维护社会经济秩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条适用范围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从事产品生产、销售活动，必须遵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是指经地加工、制作、用于销售的产品。包括工业产品、电力、煤气和经过加工的农、畜、渔、猎产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未经加工的天然形成的产品，如原矿、原煤、石油、天然气、核设施等不属于本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、军工产品、交通建设公路、桥梁、隧道、码头等设施不适用本法规定；建设工程使用的建筑材料（钢筋水泥外加剂等）、建筑构配件和设备适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务院产品质量监督管理部门（指国家质量技术监督局）负责全国产品质量监督管理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县级负责本行政区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检验机构须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省级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上人民政府产品质量监督管理部门或授权部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核合格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方可承担检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企业产品质量推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体系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对产品质量实行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主要方式的监督检查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抽查原则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抽查的，地方不得重复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上级抽查的，下级不得另行重复抽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抽查不服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申请复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监督抽查不收费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检验费用按照国务院规定列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伪造数据或报告，责令改正，处以所收检验费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罚款；严重者，吊销执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产品质量监督管理工作人员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滥用职权、玩忽职守、徇私舞弊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构成犯罪依法追究责任，否则行政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5640" y="1906560"/>
            <a:ext cx="824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 产品质量检验机构、认证机构伪造检验结果或者出具虚假证明的，责令改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单位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以下的罚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人员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元以下的罚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产品质检机构有违法所得的，并处没收违法所得，处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以下罚款；情节严重的，取消其检验资格、认证资格；构成犯罪的，依法追究刑事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2440" y="1085400"/>
            <a:ext cx="822960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适用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，新建、扩建、改建及对建设工程监督管理，必须遵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土木工程、建筑工程、线路管道、设备安装、装修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  办理质量监督手续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开工前办施工许可证、开工报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组织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交工验收、竣工验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参加交竣工验收的单位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计、施工、监理、质检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38440" y="436680"/>
            <a:ext cx="48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108000" y="8028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85640" y="1906560"/>
            <a:ext cx="82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竣工验收的五个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完成建设工程设计和合同约定的各项内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完整的技术档案和施工管理资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工程使用的主要建筑材料、建筑构配件和设备的进场试验报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勘察、设计、施工、工程监理等单位分别签署的质量合格文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施工单位签署的工程保修书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理解记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9200" y="1906560"/>
            <a:ext cx="824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负责移交项目档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政府监督、社会监理、企业自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二十九条  材料和相关检验应有书面记录和专人签字，未检验或不合格不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三十条做好隐蔽工程检查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隐蔽前通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、质量监督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0960" y="1906560"/>
            <a:ext cx="8242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涉及结构安全的试块、试件、材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，现场取样应当建设单位或监理单位监督下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未培训或考核不合格者，不得上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监理方法：旁站、巡视、平行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国家实行建设工程质量监督管理制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7776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章  公路水运工程实验检测管理相关的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08080" y="230184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立法目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（第三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08080" y="2759040"/>
            <a:ext cx="74646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发展社会主义商品经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促进技术进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改进产品质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提高社会经济效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维护国家和人民的利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08080" y="483084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任务是：制定标准、组织实施标准和对标准的实施进行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5640" y="1590840"/>
            <a:ext cx="873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鼓励积极采用国际标准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O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E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国家标准由国务院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行业标准由国务院有关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地方标准由省自治沤直辖市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，行业标准效废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或行标，地方标准即行废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七条 鼓励企业实行严于国标或行标的企业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内部适用”指标准可以不公开，也不要求备案。如果作为交货依据，必须备案。同时也是监督检查的依据。国家标准优先于行业标准优于地方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3280" y="20937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标准和行业标准分为强制性标准和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体健康、人身、财产安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和法律、行政法规规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强制执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是强制性标准，其它标准是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5016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03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推荐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/T50112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/T239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行业标准可上升为国家标准，推荐性标准也可转化为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73280" y="239544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省市标准化行政主管部门制定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安全、卫生方面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地方标准，在本行政区域内是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，必须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推荐性标准，国家鼓励企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采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认证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格认证和安全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认证依据标准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标准或行业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需要控制的重要产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，由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务院标准化行政主管部门会同国务院有关行政主管部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确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九条 县级以上政府标准化行政主管部门，可以根据需要设置检验机构，或者授权其他单位的检验机构，对产品是否符合标准进行检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处理产品符合标准争议，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县级以上检验机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检验数据为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62040" y="1906560"/>
            <a:ext cx="79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章 总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章 产品质量的监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章 生产者、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节 生产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节 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四章 损害赔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五章 罚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六章 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4T05:48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