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31E-0E81-4BA9-A783-66C53C18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2F5-9E5B-4766-A4DE-DAFE3AB2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E26-1CD7-4968-A88F-5FB3F90D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78A-067C-450F-91BD-1AE43CB8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125-9380-4370-B97B-2394384B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4D5-FFF1-4461-BBF0-2ED0C51A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D3F-ABBC-4F25-B981-A82F5D2F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3E5-C597-40C6-8260-0B625539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4A4-2D23-42B7-8EEC-3ADB6A93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C57-7BB8-4DCB-A1AC-2BEB1C3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E50-B14A-4F16-B580-96833B64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458-990B-4352-A75B-74E75A25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73A5-A686-49E9-8CE8-3010A8C815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6135-1341-4602-832C-4FF4066AAF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始终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设计参数、施工质量控制、施工验收评定、养护管理决策及各种技术规范规程修订的主要依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始终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设计参数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质量控制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验收评定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养护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管理决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各种技术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规范规程修订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主要依据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4360" y="10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目   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82800" y="2238480"/>
            <a:ext cx="7505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" y="83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2800" y="67644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96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880" y="2079720"/>
          <a:ext cx="8059680" cy="392688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4560"/>
                <a:gridCol w="20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七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八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九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四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五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六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课   程   目 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5840" y="1825560"/>
            <a:ext cx="752328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一  章       概     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二  章       公 路 水 运 试 验 检 测 管 理 相 关 法 律 法 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三  章       公 路 水 运 工 程 试 验 检 测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四  章       试 验 检 测 人 员 考 试 管 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五  章       实 验 室 资 质 认 定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六  章       试 验 检 测 常 用 术 语 和 定 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七  章       法 定 计 量 单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八  章       数 值 修 约 及 极 限 数 值 、测 量 误 差 及 不 确 定 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九  章       实 验 室 能 力 验 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  章       统 计 技 术 和 抽 样 技 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一  章       设 备 检 定 校 准 及 结 果 运 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5160" y="16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版教材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1440" y="3365640"/>
            <a:ext cx="75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新教材增加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。改动内容主要分布在第三章 增加了第八节 记录与报告要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 ，第九章第三节能力验证计划与设计实施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89520" y="29178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很少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公路水运工程试验检测起源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27000" y="272412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公路工程试验检测数据已成为交竣工验收评定的依据，是工程质量重要组成部分取得《公路水运试验检测机构等级证书》者，可设立工地试验室，承担相应试验检测业务，并对检测结果承担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3T12:04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