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B7C0-42D3-4120-ABF8-16D1608A1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877D-72AA-4ED3-B6C4-E58AA49B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285B-807F-4FAB-9B50-B495DE2A6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E93A-B605-4BB0-83CC-317E1BEC4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1B97-55E7-4E01-9A97-7B99FEBA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9293-DF83-4B19-92B8-6B94743D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6E98-3657-4172-B845-E3A975C9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7BBB-F5A9-4DE5-9F1F-B5B60DDD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E3D5-1157-4734-8ECD-2BE338AB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14EA-0726-4CE1-ADE0-78D65F8F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8349-29EE-474D-95EC-5164F43F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EF74-57C2-4AA3-BC34-D3D3AD5F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7B47-EAF8-41A3-BC55-3CB7BEC9937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75D8-C492-42F2-B813-4A574C2EB0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1720" y="18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2014</a:t>
            </a: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公路水运工程</a:t>
            </a:r>
            <a:br>
              <a:rPr sz="4400"/>
            </a:b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试验检测公共基础精讲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71880" y="3741840"/>
            <a:ext cx="582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公共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基础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65280" y="1082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公路水运工程试验检测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9680" y="2892600"/>
            <a:ext cx="848520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1.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试验检测贯穿于公路水运工程的始终（勘察设计到施工建设、运营监控养护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试验检测是进行质量、进度、费用三大控制的重要手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3.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试验检测是工程设计参数、施工质量控制、施工验收评定、养护管理决策及各种技术规范规程修订的主要依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65280" y="1082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公路水运工程试验检测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09680" y="2892600"/>
            <a:ext cx="848520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1.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试验检测贯穿于公路水运工程的</a:t>
            </a:r>
            <a:r>
              <a:rPr b="1" lang="zh-CN" sz="2000" spc="-1" strike="noStrike">
                <a:solidFill>
                  <a:srgbClr val="ff9933"/>
                </a:solidFill>
                <a:latin typeface="黑体"/>
                <a:ea typeface="黑体"/>
              </a:rPr>
              <a:t>始终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（勘察设计到施工建设、运营监控养护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试验检测是进行质量、进度、费用三大控制的重要手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3.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试验检测是工程</a:t>
            </a:r>
            <a:r>
              <a:rPr b="1" lang="zh-CN" sz="2000" spc="-1" strike="noStrike">
                <a:solidFill>
                  <a:srgbClr val="ff9933"/>
                </a:solidFill>
                <a:latin typeface="黑体"/>
                <a:ea typeface="黑体"/>
              </a:rPr>
              <a:t>设计参数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、施工</a:t>
            </a:r>
            <a:r>
              <a:rPr b="1" lang="zh-CN" sz="2000" spc="-1" strike="noStrike">
                <a:solidFill>
                  <a:srgbClr val="ff9933"/>
                </a:solidFill>
                <a:latin typeface="黑体"/>
                <a:ea typeface="黑体"/>
              </a:rPr>
              <a:t>质量控制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、施工</a:t>
            </a:r>
            <a:r>
              <a:rPr b="1" lang="zh-CN" sz="2000" spc="-1" strike="noStrike">
                <a:solidFill>
                  <a:srgbClr val="ff9933"/>
                </a:solidFill>
                <a:latin typeface="黑体"/>
                <a:ea typeface="黑体"/>
              </a:rPr>
              <a:t>验收评定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、养护</a:t>
            </a:r>
            <a:r>
              <a:rPr b="1" lang="zh-CN" sz="2000" spc="-1" strike="noStrike">
                <a:solidFill>
                  <a:srgbClr val="ff9933"/>
                </a:solidFill>
                <a:latin typeface="黑体"/>
                <a:ea typeface="黑体"/>
              </a:rPr>
              <a:t>管理决策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及各种技术</a:t>
            </a:r>
            <a:r>
              <a:rPr b="1" lang="zh-CN" sz="2000" spc="-1" strike="noStrike">
                <a:solidFill>
                  <a:srgbClr val="ff9933"/>
                </a:solidFill>
                <a:latin typeface="黑体"/>
                <a:ea typeface="黑体"/>
              </a:rPr>
              <a:t>规范规程修订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的</a:t>
            </a:r>
            <a:r>
              <a:rPr b="1" lang="zh-CN" sz="2000" spc="-1" strike="noStrike">
                <a:solidFill>
                  <a:srgbClr val="ff9933"/>
                </a:solidFill>
                <a:latin typeface="黑体"/>
                <a:ea typeface="黑体"/>
              </a:rPr>
              <a:t>主要依据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4360" y="1037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目   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82800" y="2238480"/>
            <a:ext cx="75056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考题类型与分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考试重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考点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概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1600" y="833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考题类型与分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82800" y="67644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考试重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72960" y="70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考试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42880" y="2079720"/>
          <a:ext cx="8059680" cy="3926880"/>
        </p:xfrm>
        <a:graphic>
          <a:graphicData uri="http://schemas.openxmlformats.org/drawingml/2006/table">
            <a:tbl>
              <a:tblPr/>
              <a:tblGrid>
                <a:gridCol w="2014560"/>
                <a:gridCol w="2014560"/>
                <a:gridCol w="2014560"/>
                <a:gridCol w="2016000"/>
              </a:tblGrid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章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分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章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分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6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一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七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二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八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三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-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九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四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十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五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-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十一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六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752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课   程   目   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5840" y="1825560"/>
            <a:ext cx="752328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一  章       概      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二  章       公 路 水 运 试 验 检 测 管 理 相 关 法 律 法 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三  章       公 路 水 运 工 程 试 验 检 测 管 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四  章       试 验 检 测 人 员 考 试 管 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五  章       实 验 室 资 质 认 定 管 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六  章       试 验 检 测 常 用 术 语 和 定 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七  章       法 定 计 量 单 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八  章       数 值 修 约 及 极 限 数 值 、测 量 误 差 及 不 确 定 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九  章       实 验 室 能 力 验 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十  章       统 计 技 术 和 抽 样 技 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十一  章       设 备 检 定 校 准 及 结 果 运 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5160" y="16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2014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与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2012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版教材区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71440" y="3365640"/>
            <a:ext cx="752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新教材增加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页。改动内容主要分布在第三章 增加了第八节 记录与报告要求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页 ，第九章第三节能力验证计划与设计实施步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89520" y="2917800"/>
            <a:ext cx="234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（很少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65280" y="1082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公路水运工程试验检测起源与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27000" y="2724120"/>
            <a:ext cx="752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公路工程试验检测数据已成为交竣工验收评定的依据，是工程质量重要组成部分取得《公路水运试验检测机构等级证书》者，可设立工地试验室，承担相应试验检测业务，并对检测结果承担责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wang</dc:creator>
  <dc:description/>
  <dc:language>en-US</dc:language>
  <cp:lastModifiedBy>bianxiaoxiang</cp:lastModifiedBy>
  <dcterms:modified xsi:type="dcterms:W3CDTF">2014-05-13T12:04:01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</Properties>
</file>