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67C1-1911-455E-B664-9DA43E35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8ACF-BDBE-40F3-9E09-F26FFCD2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E52-4F2A-436D-8582-82B7CFE26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CFC-6F8F-43B3-8C22-7D2E2A93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DB83-D76C-4566-8465-19C65ECE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7C2-A3D3-4BA9-94F6-3EC8C3E1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434-BD11-48AB-B507-D3029676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04E-CA17-4AE2-96AE-404AE4D8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6147-BFA1-4547-A54C-D6666DCA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ADEF-0C46-4406-865A-FBC9049E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7F84-8195-460E-A319-15A043E4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07A5-5C1D-47AA-B903-2C7A7F00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21DB-4BFA-4DD1-A3B0-68114F7C412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7131-FA56-4970-AD84-15F179E047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1720" y="18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2014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公路水运工程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试验检测公共基础精讲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71880" y="3741840"/>
            <a:ext cx="582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公共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基础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5280" y="10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公路水运工程试验检测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9680" y="2892600"/>
            <a:ext cx="84852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贯穿于公路水运工程的始终（勘察设计到施工建设、运营监控养护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进行质量、进度、费用三大控制的重要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工程设计参数、施工质量控制、施工验收评定、养护管理决策及各种技术规范规程修订的主要依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5280" y="10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公路水运工程试验检测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9680" y="2892600"/>
            <a:ext cx="84852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贯穿于公路水运工程的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始终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（勘察设计到施工建设、运营监控养护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进行质量、进度、费用三大控制的重要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工程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设计参数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施工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质量控制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施工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验收评定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养护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管理决策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及各种技术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规范规程修订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的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主要依据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4360" y="10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目   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82800" y="2238480"/>
            <a:ext cx="75056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考题类型与分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考试重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考点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概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1600" y="83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考题类型与分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82800" y="67644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考试重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2960" y="70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考试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42880" y="2079720"/>
          <a:ext cx="8059680" cy="3926880"/>
        </p:xfrm>
        <a:graphic>
          <a:graphicData uri="http://schemas.openxmlformats.org/drawingml/2006/table">
            <a:tbl>
              <a:tblPr/>
              <a:tblGrid>
                <a:gridCol w="2014560"/>
                <a:gridCol w="2014560"/>
                <a:gridCol w="2014560"/>
                <a:gridCol w="2016000"/>
              </a:tblGrid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章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分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章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分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一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七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二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八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三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九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四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十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五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-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十一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六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75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课   程   目   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5840" y="1825560"/>
            <a:ext cx="752328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一  章       概      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二  章       公 路 水 运 试 验 检 测 管 理 相 关 法 律 法 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三  章       公 路 水 运 工 程 试 验 检 测 管 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四  章       试 验 检 测 人 员 考 试 管 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五  章       实 验 室 资 质 认 定 管 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六  章       试 验 检 测 常 用 术 语 和 定 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七  章       法 定 计 量 单 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八  章       数 值 修 约 及 极 限 数 值 、测 量 误 差 及 不 确 定 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九  章       实 验 室 能 力 验 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十  章       统 计 技 术 和 抽 样 技 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十一  章       设 备 检 定 校 准 及 结 果 运 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5160" y="16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2014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与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2012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版教材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71440" y="3365640"/>
            <a:ext cx="752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新教材增加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页。改动内容主要分布在第三章 增加了第八节 记录与报告要求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页 ，第九章第三节能力验证计划与设计实施步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89520" y="291780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（很少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5280" y="10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公路水运工程试验检测起源与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27000" y="2724120"/>
            <a:ext cx="752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公路工程试验检测数据已成为交竣工验收评定的依据，是工程质量重要组成部分取得《公路水运试验检测机构等级证书》者，可设立工地试验室，承担相应试验检测业务，并对检测结果承担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ang</dc:creator>
  <dc:description/>
  <dc:language>en-US</dc:language>
  <cp:lastModifiedBy>bianxiaoxiang</cp:lastModifiedBy>
  <dcterms:modified xsi:type="dcterms:W3CDTF">2014-05-13T12:04:0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