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D298-1320-4A1E-ABBB-06519603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0E06-AAAC-4C6D-9DD2-D0B84C5E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66BF-0B96-41FD-AF62-5222DEE3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3D41-2EEA-4A91-9628-34AC86DA1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C700-E8C5-4BE9-8B30-7FD25EB2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EFE6-AA7D-4587-A6A0-209F0058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1150-5BD3-4153-ABA8-FE8852FE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3715-B3C0-418F-A77A-637ADA12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5A96-3099-4A15-816B-89B12225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A7D0-D633-4D67-BDBF-2EF7BA2A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BFD5-6EAC-4436-A1B4-21D08F88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350A-3DD4-4ADF-98B2-4C0D61A7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2585-CCD7-4C4D-B633-3B2EEE33541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A9E0-DCAA-415B-85EA-526E1AD787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1720" y="18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2014</a:t>
            </a: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公路水运工程</a:t>
            </a: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试验检测公共基础精讲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82800" y="3867120"/>
            <a:ext cx="475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71880" y="3741840"/>
            <a:ext cx="582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公共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基础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73280" y="1906560"/>
            <a:ext cx="794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一条立法目的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加强产品质量监管，提高质量水平，明确质量责任，保护消费者合法权益，维护社会经济秩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二条适用范围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中国境内从事产品生产、销售活动，必须遵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产品是指经地加工、制作、用于销售的产品。包括工业产品、电力、煤气和经过加工的农、畜、渔、猎产品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未经加工的天然形成的产品，如原矿、原煤、石油、天然气、核设施等不属于本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产品质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73280" y="1906560"/>
            <a:ext cx="794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建设工程、军工产品、交通建设公路、桥梁、隧道、码头等设施不适用本法规定；建设工程使用的建筑材料（钢筋水泥外加剂等）、建筑构配件和设备适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国务院产品质量监督管理部门（指国家质量技术监督局）负责全国产品质量监督管理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县级负责本行政区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产品质量检验机构须经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省级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以上人民政府产品质量监督管理部门或授权部门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考核合格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方可承担检验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产品质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73280" y="1906560"/>
            <a:ext cx="794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企业产品质量推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自愿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质量体系认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国家对产品质量实行以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抽查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为主要方式的监督检查制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质量抽查原则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国家抽查的，地方不得重复抽查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；上级抽查的，下级不得另行重复抽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抽查不服者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日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申请复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监督抽查不收费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检验费用按照国务院规定列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产品质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73280" y="1906560"/>
            <a:ext cx="794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44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条： 伪造数据或报告，责令改正，处以所收检验费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－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倍罚款；严重者，吊销执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47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条： 产品质量监督管理工作人员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滥用职权、玩忽职守、徇私舞弊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构成犯罪依法追究责任，否则行政处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产品质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85640" y="1906560"/>
            <a:ext cx="8242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57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条 产品质量检验机构、认证机构伪造检验结果或者出具虚假证明的，责令改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对单位处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万以下的罚款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对人员处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－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万元以下的罚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对产品质检机构有违法所得的，并处没收违法所得，处以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倍以下罚款；情节严重的，取消其检验资格、认证资格；构成犯罪的，依法追究刑事责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产品质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52440" y="1085400"/>
            <a:ext cx="8229600" cy="38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适用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中国境内，新建、扩建、改建及对建设工程监督管理，必须遵守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建设工程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土木工程、建筑工程、线路管道、设备安装、装修工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建设单位  办理质量监督手续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 开工前办施工许可证、开工报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建设单位组织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交工验收、竣工验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参加交竣工验收的单位：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设计、施工、监理、质检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38440" y="436680"/>
            <a:ext cx="483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-108000" y="80280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建设工程质量管理条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85640" y="1906560"/>
            <a:ext cx="8242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竣工验收的五个条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完成建设工程设计和合同约定的各项内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有完整的技术档案和施工管理资料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有工程使用的主要建筑材料、建筑构配件和设备的进场试验报告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有勘察、设计、施工、工程监理等单位分别签署的质量合格文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有施工单位签署的工程保修书。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理解记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1120" y="7635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建设工程质量管理条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19200" y="1906560"/>
            <a:ext cx="8242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建设单位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负责移交项目档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政府监督、社会监理、企业自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第二十九条  材料和相关检验应有书面记录和专人签字，未检验或不合格不使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第三十条做好隐蔽工程检查记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隐蔽前通知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建设单位、质量监督单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1120" y="7635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建设工程质量管理条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50960" y="1906560"/>
            <a:ext cx="82422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涉及结构安全的试块、试件、材料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，现场取样应当建设单位或监理单位监督下进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未培训或考核不合格者，不得上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监理方法：旁站、巡视、平行检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国家实行建设工程质量监督管理制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1120" y="7635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四节建设工程质量管理条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777600"/>
            <a:ext cx="8528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章  公路水运工程实验检测管理相关的法律法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08080" y="2301840"/>
            <a:ext cx="73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立法目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标准化法及实施条例内容（第三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08080" y="2759040"/>
            <a:ext cx="7464600" cy="21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cc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发展社会主义商品经济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cc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促进技术进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cc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改进产品质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cc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提高社会经济效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cc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维护国家和人民的利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08080" y="4830840"/>
            <a:ext cx="67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任务是：制定标准、组织实施标准和对标准的实施进行监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85640" y="1590840"/>
            <a:ext cx="87314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国家鼓励积极采用国际标准（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OS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IEC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条 国家标准由国务院标准化行政主管部门制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条 行业标准由国务院有关行政主管部门制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条 地方标准由省自治沤直辖市标准化行政主管部门制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有了国标，行业标准效废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有了国标或行标，地方标准即行废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33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十七条 鼓励企业实行严于国标或行标的企业标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“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内部适用”指标准可以不公开，也不要求备案。如果作为交货依据，必须备案。同时也是监督检查的依据。国家标准优先于行业标准优于地方标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标准化法及实施条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73280" y="209376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国家标准和行业标准分为强制性标准和推荐性标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保障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人体健康、人身、财产安全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的标准和法律、行政法规规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强制执行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的标准是强制性标准，其它标准是推荐性标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强制性标准如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GB50164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JTJ032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推荐性标准如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GB/T501123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JTJ/T239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；行业标准可上升为国家标准，推荐性标准也可转化为强制性标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标准化法及实施条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73280" y="2395440"/>
            <a:ext cx="794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省市标准化行政主管部门制定的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安全、卫生方面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地方标准，在本行政区域内是强制性标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强制性标准，必须执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推荐性标准，国家鼓励企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自愿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采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标准化法及实施条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73280" y="2395440"/>
            <a:ext cx="794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产品质量认证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合格认证和安全认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认证依据标准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国家标准或行业标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国家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需要控制的重要产品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目录，由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国务院标准化行政主管部门会同国务院有关行政主管部门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确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标准化法及实施条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73280" y="2395440"/>
            <a:ext cx="794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十九条 县级以上政府标准化行政主管部门，可以根据需要设置检验机构，或者授权其他单位的检验机构，对产品是否符合标准进行检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处理产品符合标准争议，以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县级以上检验机构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的检验数据为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二节标准化法及实施条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62040" y="1906560"/>
            <a:ext cx="7943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一章 总则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二章 产品质量的监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三章 生产者、销售者的产品质量责任和义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一节 生产者的产品质量责任和义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二节 销售者的产品质量责任和义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四章 损害赔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五章 罚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第六章 附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5640" y="76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第三节产品质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wang</dc:creator>
  <dc:description/>
  <dc:language>en-US</dc:language>
  <cp:lastModifiedBy>bianxiaoxiang</cp:lastModifiedBy>
  <dcterms:modified xsi:type="dcterms:W3CDTF">2014-05-14T05:48:29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