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6E1D-CF61-45A4-93C3-9BE8186C1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C5FD-61BE-4C0C-8C0F-E017F61D5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58CB-D0A0-42DE-842A-20E04B8B7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3063-B296-41CE-BF37-798C5D905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ACE8-5D60-49EB-9EC9-E9F5A4918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FD78-5454-4700-AFCC-A8FB40117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38A0-FE33-4769-BE8C-22287ECBD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4A93-6EEE-4ECC-9F22-C5EB4AE98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A3E5-C3C7-4A52-8779-B4080550C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7CAB-ADC5-4B6A-A4D8-DE69F91BD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6C68-E52E-42C3-BBF6-872402402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C541-40F2-44FD-924E-4AB4E8FC6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A5DB5-E8E3-44C2-8C1D-EEE97BC5161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084CA-15EA-48B3-9857-C094DBF6814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1720" y="18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2014</a:t>
            </a:r>
            <a:r>
              <a:rPr b="0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公路水运工程</a:t>
            </a:r>
            <a:br>
              <a:rPr sz="4400"/>
            </a:br>
            <a:r>
              <a:rPr b="0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试验检测公共基础精讲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882800" y="3867120"/>
            <a:ext cx="4759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171880" y="3741840"/>
            <a:ext cx="5822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Arial"/>
              </a:rPr>
              <a:t>《</a:t>
            </a:r>
            <a:r>
              <a:rPr b="0" lang="zh-CN" sz="6600" spc="-1" strike="noStrike">
                <a:solidFill>
                  <a:srgbClr val="ffffff"/>
                </a:solidFill>
                <a:latin typeface="黑体"/>
                <a:ea typeface="黑体"/>
              </a:rPr>
              <a:t>公共</a:t>
            </a:r>
            <a:r>
              <a:rPr b="0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基础</a:t>
            </a:r>
            <a:r>
              <a:rPr b="0" lang="zh-CN" sz="6000" spc="-1" strike="noStrike">
                <a:solidFill>
                  <a:srgbClr val="ffffff"/>
                </a:solidFill>
                <a:latin typeface="Arial"/>
              </a:rPr>
              <a:t>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65280" y="1082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公路水运工程试验检测的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82800" y="3867120"/>
            <a:ext cx="4759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09680" y="2892600"/>
            <a:ext cx="8485200" cy="16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1. 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试验检测贯穿于公路水运工程的始终（勘察设计到施工建设、运营监控养护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2. 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试验检测是进行质量、进度、费用三大控制的重要手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3. 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试验检测是工程设计参数、施工质量控制、施工验收评定、养护管理决策及各种技术规范规程修订的主要依据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65280" y="1082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公路水运工程试验检测的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882800" y="3867120"/>
            <a:ext cx="4759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09680" y="2892600"/>
            <a:ext cx="8485200" cy="16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1. 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试验检测贯穿于公路水运工程的</a:t>
            </a:r>
            <a:r>
              <a:rPr b="1" lang="zh-CN" sz="2000" spc="-1" strike="noStrike">
                <a:solidFill>
                  <a:srgbClr val="ff9933"/>
                </a:solidFill>
                <a:latin typeface="黑体"/>
                <a:ea typeface="黑体"/>
              </a:rPr>
              <a:t>始终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（勘察设计到施工建设、运营监控养护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2. 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试验检测是进行质量、进度、费用三大控制的重要手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3. 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试验检测是工程</a:t>
            </a:r>
            <a:r>
              <a:rPr b="1" lang="zh-CN" sz="2000" spc="-1" strike="noStrike">
                <a:solidFill>
                  <a:srgbClr val="ff9933"/>
                </a:solidFill>
                <a:latin typeface="黑体"/>
                <a:ea typeface="黑体"/>
              </a:rPr>
              <a:t>设计参数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、施工</a:t>
            </a:r>
            <a:r>
              <a:rPr b="1" lang="zh-CN" sz="2000" spc="-1" strike="noStrike">
                <a:solidFill>
                  <a:srgbClr val="ff9933"/>
                </a:solidFill>
                <a:latin typeface="黑体"/>
                <a:ea typeface="黑体"/>
              </a:rPr>
              <a:t>质量控制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、施工</a:t>
            </a:r>
            <a:r>
              <a:rPr b="1" lang="zh-CN" sz="2000" spc="-1" strike="noStrike">
                <a:solidFill>
                  <a:srgbClr val="ff9933"/>
                </a:solidFill>
                <a:latin typeface="黑体"/>
                <a:ea typeface="黑体"/>
              </a:rPr>
              <a:t>验收评定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、养护</a:t>
            </a:r>
            <a:r>
              <a:rPr b="1" lang="zh-CN" sz="2000" spc="-1" strike="noStrike">
                <a:solidFill>
                  <a:srgbClr val="ff9933"/>
                </a:solidFill>
                <a:latin typeface="黑体"/>
                <a:ea typeface="黑体"/>
              </a:rPr>
              <a:t>管理决策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及各种技术</a:t>
            </a:r>
            <a:r>
              <a:rPr b="1" lang="zh-CN" sz="2000" spc="-1" strike="noStrike">
                <a:solidFill>
                  <a:srgbClr val="ff9933"/>
                </a:solidFill>
                <a:latin typeface="黑体"/>
                <a:ea typeface="黑体"/>
              </a:rPr>
              <a:t>规范规程修订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的</a:t>
            </a:r>
            <a:r>
              <a:rPr b="1" lang="zh-CN" sz="2000" spc="-1" strike="noStrike">
                <a:solidFill>
                  <a:srgbClr val="ff9933"/>
                </a:solidFill>
                <a:latin typeface="黑体"/>
                <a:ea typeface="黑体"/>
              </a:rPr>
              <a:t>主要依据</a:t>
            </a: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882800" y="3867120"/>
            <a:ext cx="4759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882800" y="3867120"/>
            <a:ext cx="4759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14360" y="1037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目   录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882800" y="2238480"/>
            <a:ext cx="750564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  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考题类型与分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  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考试重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  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考点分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  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概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71600" y="833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黑体"/>
              </a:rPr>
              <a:t>考题类型与分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882800" y="3867120"/>
            <a:ext cx="4759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2800" y="3867120"/>
            <a:ext cx="4759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882800" y="676440"/>
            <a:ext cx="5105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黑体"/>
              </a:rPr>
              <a:t>考试重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72960" y="70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黑体"/>
              </a:rPr>
              <a:t>考试分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882800" y="3867120"/>
            <a:ext cx="4759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542880" y="2079720"/>
          <a:ext cx="8059680" cy="3926880"/>
        </p:xfrm>
        <a:graphic>
          <a:graphicData uri="http://schemas.openxmlformats.org/drawingml/2006/table">
            <a:tbl>
              <a:tblPr/>
              <a:tblGrid>
                <a:gridCol w="2014560"/>
                <a:gridCol w="2014560"/>
                <a:gridCol w="2014560"/>
                <a:gridCol w="2016000"/>
              </a:tblGrid>
              <a:tr h="563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章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分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章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分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64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第一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第七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-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44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第二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-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第八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-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64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第三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-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第九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-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63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第四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-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第十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-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64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第五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-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第十一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-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63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第六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-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 spd="slow"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06280" y="752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黑体"/>
              </a:rPr>
              <a:t>课   程   目   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882800" y="3867120"/>
            <a:ext cx="4759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85840" y="1825560"/>
            <a:ext cx="7523280" cy="52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Calibri"/>
              </a:rPr>
              <a:t>第  一  章       概      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Calibri"/>
              </a:rPr>
              <a:t>第  二  章       公 路 水 运 试 验 检 测 管 理 相 关 法 律 法 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Calibri"/>
              </a:rPr>
              <a:t>第  三  章       公 路 水 运 工 程 试 验 检 测 管 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Calibri"/>
              </a:rPr>
              <a:t>第  四  章       试 验 检 测 人 员 考 试 管 理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Calibri"/>
              </a:rPr>
              <a:t>第  五  章       实 验 室 资 质 认 定 管 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Calibri"/>
              </a:rPr>
              <a:t>第  六  章       试 验 检 测 常 用 术 语 和 定 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Calibri"/>
              </a:rPr>
              <a:t>第  七  章       法 定 计 量 单 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Calibri"/>
              </a:rPr>
              <a:t>第  八  章       数 值 修 约 及 极 限 数 值 、测 量 误 差 及 不 确 定 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Calibri"/>
              </a:rPr>
              <a:t>第  九  章       实 验 室 能 力 验 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Calibri"/>
              </a:rPr>
              <a:t>第  十  章       统 计 技 术 和 抽 样 技 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Calibri"/>
              </a:rPr>
              <a:t>第  十一  章       设 备 检 定 校 准 及 结 果 运 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5160" y="16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黑体"/>
              </a:rPr>
              <a:t>2014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黑体"/>
              </a:rPr>
              <a:t>与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黑体"/>
              </a:rPr>
              <a:t>2012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黑体"/>
              </a:rPr>
              <a:t>版教材区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882800" y="3867120"/>
            <a:ext cx="4759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71440" y="3365640"/>
            <a:ext cx="7521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　　新教材增加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20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页。改动内容主要分布在第三章 增加了第八节 记录与报告要求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18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页 ，第九章第三节能力验证计划与设计实施步骤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882800" y="3867120"/>
            <a:ext cx="4759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789520" y="2917800"/>
            <a:ext cx="234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（很少考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65280" y="1082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公路水运工程试验检测起源与发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882800" y="3867120"/>
            <a:ext cx="4759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927000" y="2724120"/>
            <a:ext cx="752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公路工程试验检测数据已成为交竣工验收评定的依据，是工程质量重要组成部分取得《公路水运试验检测机构等级证书》者，可设立工地试验室，承担相应试验检测业务，并对检测结果承担责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wang</dc:creator>
  <dc:description/>
  <dc:language>en-US</dc:language>
  <cp:lastModifiedBy>bianxiaoxiang</cp:lastModifiedBy>
  <dcterms:modified xsi:type="dcterms:W3CDTF">2014-05-13T12:04:01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517</vt:lpwstr>
  </property>
</Properties>
</file>