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AED-364D-437E-B679-2D428DB2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466-EA97-4736-909A-E84A2378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A68-AB8D-4D2B-874E-21829446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5E4-16CD-42CF-9B72-41BB25AF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3C5-3D2C-45E8-A882-B27EB247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F5A-398E-41AB-B3FC-FF2848F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502-5108-4769-AE37-A73D011E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2F2-669E-4B38-8744-9164068F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91F-A2C1-478F-B3C4-E0937C2C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F59-778C-4F39-850E-F3052B7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CCA-9FF0-4DB5-AC00-34212A0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BF8-A343-4C1A-8B37-6549E8B5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0CB9-659B-48E6-ADC6-6E695D82C3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B5F7-5933-44D1-A4A9-8702E950E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始终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设计参数、施工质量控制、施工验收评定、养护管理决策及各种技术规范规程修订的主要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始终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设计参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质量控制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验收评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养护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管理决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各种技术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规范规程修订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主要依据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360" y="10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目   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82800" y="2238480"/>
            <a:ext cx="7505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" y="83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2800" y="67644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96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880" y="2079720"/>
          <a:ext cx="8059680" cy="392688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4560"/>
                <a:gridCol w="20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七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八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九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五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六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   程   目 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5840" y="1825560"/>
            <a:ext cx="752328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一  章       概     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二  章       公 路 水 运 试 验 检 测 管 理 相 关 法 律 法 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三  章       公 路 水 运 工 程 试 验 检 测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四  章       试 验 检 测 人 员 考 试 管 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五  章       实 验 室 资 质 认 定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六  章       试 验 检 测 常 用 术 语 和 定 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七  章       法 定 计 量 单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八  章       数 值 修 约 及 极 限 数 值 、测 量 误 差 及 不 确 定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九  章       实 验 室 能 力 验 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  章       统 计 技 术 和 抽 样 技 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一  章       设 备 检 定 校 准 及 结 果 运 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5160" y="16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版教材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1440" y="3365640"/>
            <a:ext cx="75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新教材增加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。改动内容主要分布在第三章 增加了第八节 记录与报告要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 ，第九章第三节能力验证计划与设计实施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89520" y="29178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很少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公路水运工程试验检测起源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000" y="27241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公路工程试验检测数据已成为交竣工验收评定的依据，是工程质量重要组成部分取得《公路水运试验检测机构等级证书》者，可设立工地试验室，承担相应试验检测业务，并对检测结果承担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3T12:04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